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C60E-66F6-4296-934F-30170538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B663-8975-4218-B6EB-DBF98EAE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3C56-266E-4170-AA6E-8CED8F6D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56D7-1D3F-41D2-8099-AFE92935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0864-5ADA-4186-8D00-0776F127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A94-7737-48CE-BBA2-218693BF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4307-8702-44D1-809D-7AD3485D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866F-938B-4916-B3D5-09D54E06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23D0-11E3-46C7-941A-A6D568C3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1E34-8FCD-4250-8AE9-30D66B0F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AE7F-7B4B-4F2C-9DF0-48EB1125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7C9C-44F0-4EB3-A79C-9CF130ED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2C96-C002-47C2-B9FB-5A09B746F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ilibertovillalobosguijuelo.com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4582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NSTITUCIÓN ESPAÑOLA 40 AÑOS DE SINTONÍA DEMOCRÁTICA.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40 AÑOS AUNANDO IDE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4800600"/>
            <a:ext cx="1330200" cy="1752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48006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. E. I. P. “FILIBERTO VILLALOBOS” AVD DEL PRÍNCIPE FELIPE, 38  TFNO: 9235809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7770 GUIJUELO (SALAMAN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ilibertovillalobosguijuel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24040" y="-371520"/>
            <a:ext cx="5695920" cy="76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077320" cy="60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2296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52480" y="-152280"/>
            <a:ext cx="569592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45820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520" y="-380880"/>
            <a:ext cx="8229600" cy="76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9480" y="-304920"/>
            <a:ext cx="7925040" cy="76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624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54080"/>
            <a:ext cx="868680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439560"/>
            <a:ext cx="792504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13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84872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01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70102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30T17:43:36Z</dcterms:created>
  <dc:creator>usuario</dc:creator>
  <dc:description/>
  <dc:language>en-US</dc:language>
  <cp:lastModifiedBy>usuario</cp:lastModifiedBy>
  <dcterms:modified xsi:type="dcterms:W3CDTF">2019-01-30T18:25:0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